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F7B-461B-4781-A75F-E74C88AA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A1A-1623-4F3D-9B47-92673504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8F2-951A-448F-A757-EC02F8B3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077-9611-4B5C-BF6B-13F77EF8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CBE-7722-43F4-B52D-3504E53E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173-ED94-4AF8-9FD9-FC426E1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2CF-8D00-41D0-B671-FADC9110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3E5-1909-4BD6-8660-7DBC32A5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89C-630F-490C-9E4C-D176D95C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2B7-9C69-412E-90BF-98574491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B5B-3C32-46C1-A1C1-0294C2E8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CBB-594A-4833-924B-AB3B102B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065F-08BB-41E8-9EF3-5FF1E1499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0"/>
            <a:ext cx="8534520" cy="75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歌舞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第一个节目</a:t>
            </a:r>
            <a:r>
              <a:rPr b="0" lang="zh-CN" sz="36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把新加坡的防御物展现给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阅兵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第二个节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各个种族的舞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人穿着像小笼包的服装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每个人拿着不同的字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好像古老的打字机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228600"/>
            <a:ext cx="88394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个节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许多人扮演成海底的小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节目说的是个小男孩在沙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捡贝壳，遇到了暴风雨，迷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表了邻居之间要互相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男孩的邻居帮忙找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0:33:50Z</dcterms:created>
  <dc:creator>Fujitsu</dc:creator>
  <dc:description/>
  <dc:language>en-US</dc:language>
  <cp:lastModifiedBy>Fujitsu</cp:lastModifiedBy>
  <dcterms:modified xsi:type="dcterms:W3CDTF">2011-07-26T11:12:36Z</dcterms:modified>
  <cp:revision>3</cp:revision>
  <dc:subject/>
  <dc:title>Slide 1</dc:title>
</cp:coreProperties>
</file>